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9619B-A5B4-4912-BE84-8F02C559A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CCF54-4999-4BDE-A3B9-6A02293A5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EFC30-4BAA-47BD-AF66-5B5852FF5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F74D8-BEE9-48E2-8EA3-427672E3E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D6BFF-305E-4A44-BA33-CB71E7303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901CF-0240-4148-B0C0-67CAB7DC7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9CD9B-C26D-454D-B6C2-CB5CBE3F4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57F99-60AC-475C-A709-A642DE213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8B550-B8D2-4889-85C3-D131017FB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8212F-7192-411D-A43C-2226CC64F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FB153-A0C7-455D-949D-11476FA5A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0E212-0AB9-4547-9904-8AD47DD3D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50EDC-3A3C-4B76-8B92-13A8131F1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05853-CA10-4CD1-9FE4-A614C2ADC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88BD3-7ED4-471E-8A40-E05063F55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00875-6A1E-4D2E-9317-8EFA1137D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18870-D337-4AEE-B7D8-7B31B565F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A8C3C-7215-4AA6-8C70-0CEF55EF7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231A5A1-A41C-41EC-9325-15E762BCF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1BA949-9793-4323-BD62-036278B85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A318B57-B2D5-4FB4-B624-47E6409C4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5D504-15BC-4E9C-8BF5-1DE40F8D9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13C632E-C9BF-4CFD-8F1F-5A1EB30BC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2C53FC0-F8A4-45BF-B2A6-F289FEA12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1FDE23-457D-4AA4-9158-41112B5F4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547F67B-5EE0-45DB-8F11-A9BD4C660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34DAC7E-1920-4269-8759-F42FE495D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E10D0EA-C711-4365-91E9-282484D1A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A13F86-CF7C-42AE-B09E-9C786C81C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A2892A6-9747-4A2A-87FE-F0776F915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198241D-A6FA-4DA6-A0E5-97D502C5D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642D3B-D0DC-40FA-BF74-F5855AB9B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16360-27A7-4471-A21B-81DBF3C4E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D18299-2036-4C58-A299-29F27AD2F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75B6A8-17E7-4BEA-9338-FDAF32349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BDA369-849F-46AD-B272-8FABAC161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25AF8C-6F78-4BDF-918D-95C37C6A3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AC2FB0-92E7-468B-A367-1CBABA9D7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18C1D1-C9F5-43ED-B050-3C0594F9E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1E8802-3607-4B6A-9C2C-62428513C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276D66-8C01-4C61-B07B-BE3C4D402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254AA9-B2D7-4942-8409-1FBE763E1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1A40BE-2166-4255-A951-895F7FC58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B5615-7CBC-4E78-A6D6-4B7CCF6C4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FFDFDC-E009-4EA8-BDF6-E9A54C1A9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5E3C23-6C0F-47E2-9308-43A33BA9F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FB533E-A997-4ADA-88A1-FBA772BCA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D77F86-634F-4EED-B500-7069348D4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0BB881-AB75-44EA-B866-3344DEAC1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C8CE05-2445-4C20-912C-1BB0E6972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728574-5F48-4795-A326-730765DD7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74472D-5DA3-4CA2-8200-290197F53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91E7C8-9386-46D3-91FC-3819FF04B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FA29ED-14C1-4A3E-8FF5-35274248F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56E5C-54A6-45E4-87B2-47DDCD13C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89FAC0-BDD2-491A-B4D0-FA60B9955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E96E28-26E0-46FE-89BB-FE2708B39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0747B4-F19E-4C95-94CF-3D85C24C0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58A77-6DE1-45C3-AB35-0B164C6FA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EC2E3-D685-4C2E-8421-9D1FD13F2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tângulo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tângulo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tângulo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tângulo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tângulo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tângulo de cantos arredondados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tângulo de cantos arredondados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tângulo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tângulo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Retângulo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tângulo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Retângulo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Retângulo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9A146-849C-4961-BC9D-069D1E08B2A3}" type="slidenum">
              <a:rPr b="0" lang="pt-BR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tângulo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tângulo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tângulo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tângulo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tângulo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tângulo de cantos arredondados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tângulo de cantos arredondados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tângulo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tângulo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tângulo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tângulo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B617E-BD69-4205-9B8A-F135D028E54F}" type="slidenum">
              <a:rPr b="0" lang="pt-BR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tângulo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tângulo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tângulo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tângulo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tângulo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tângulo de cantos arredondados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tângulo de cantos arredondados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tângulo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tângulo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tângulo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tângulo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tângulo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tângulo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Imagem 19" descr=""/>
          <p:cNvPicPr/>
          <p:nvPr/>
        </p:nvPicPr>
        <p:blipFill>
          <a:blip r:embed="rId2"/>
          <a:stretch/>
        </p:blipFill>
        <p:spPr>
          <a:xfrm>
            <a:off x="7234200" y="260280"/>
            <a:ext cx="1905120" cy="139068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tângulo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tângulo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tângulo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tângulo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tângulo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tângulo de cantos arredondados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tângulo de cantos arredondados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tângulo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tângulo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tângulo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tângulo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tângulo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tângulo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F1694-BD8C-4008-81F2-8E18FA347D59}" type="slidenum">
              <a:rPr b="0" lang="pt-BR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tângulo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tângulo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tângulo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tângulo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tângulo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tângulo de cantos arredondados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tângulo de cantos arredondados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tângulo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tângulo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tângulo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tângulo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tângulo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tângulo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74A79-FA33-42DC-92A5-D603339DCDCF}" type="slidenum">
              <a:rPr b="0" lang="pt-BR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tângulo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tângulo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tângulo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tângulo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tângulo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tângulo de cantos arredondados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tângulo de cantos arredondados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tângulo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tângulo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tângulo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tângulo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tângulo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tângulo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77901-C64F-404E-8E81-B8DADD564062}" type="slidenum"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mailto:raivatocantins@gmail.com" TargetMode="External"/><Relationship Id="rId2" Type="http://schemas.openxmlformats.org/officeDocument/2006/relationships/hyperlink" Target="mailto:nzoonoses@gmail.com" TargetMode="External"/><Relationship Id="rId3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ubTitle"/>
          </p:nvPr>
        </p:nvSpPr>
        <p:spPr>
          <a:xfrm>
            <a:off x="0" y="410544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0000"/>
                </a:solidFill>
                <a:latin typeface="Georgia"/>
              </a:rPr>
              <a:t>Carina Graser Azevedo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633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424456"/>
                </a:solidFill>
                <a:latin typeface="Georgia"/>
              </a:rPr>
              <a:t>Gerente de Doenças Vetoriais e Zoonoses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633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1" name="Retângulo 4"/>
          <p:cNvSpPr/>
          <p:nvPr/>
        </p:nvSpPr>
        <p:spPr>
          <a:xfrm>
            <a:off x="1143000" y="1071720"/>
            <a:ext cx="74296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3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ffff"/>
                </a:solidFill>
                <a:latin typeface="Georgia"/>
              </a:rPr>
              <a:t>Assessoria de Zoonoses e Animais Peçonhento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Imagem 3" descr=""/>
          <p:cNvPicPr/>
          <p:nvPr/>
        </p:nvPicPr>
        <p:blipFill>
          <a:blip r:embed="rId1"/>
          <a:stretch/>
        </p:blipFill>
        <p:spPr>
          <a:xfrm>
            <a:off x="3571920" y="4929120"/>
            <a:ext cx="5414760" cy="1571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6"/>
          <p:cNvSpPr/>
          <p:nvPr/>
        </p:nvSpPr>
        <p:spPr>
          <a:xfrm>
            <a:off x="571680" y="1025640"/>
            <a:ext cx="8286480" cy="55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pt-BR" sz="2200" spc="-1" strike="noStrike">
                <a:solidFill>
                  <a:srgbClr val="000000"/>
                </a:solidFill>
                <a:latin typeface="Georgia"/>
              </a:rPr>
              <a:t>Campanha antirrábica 2017 </a:t>
            </a:r>
            <a:r>
              <a:rPr b="0" lang="pt-BR" sz="2200" spc="-1" strike="noStrike">
                <a:solidFill>
                  <a:srgbClr val="000000"/>
                </a:solidFill>
                <a:latin typeface="Georgia"/>
              </a:rPr>
              <a:t>– março a abril de 2017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pt-BR" sz="2200" spc="-1" strike="noStrike">
                <a:solidFill>
                  <a:srgbClr val="000000"/>
                </a:solidFill>
                <a:latin typeface="Georgia"/>
              </a:rPr>
              <a:t>Aprovação da Resolução CIB/TO nº 230/2017, de 22/06/2017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Georgia"/>
              </a:rPr>
              <a:t>Dispõe sobre repasse financeiro Fundo a Fundo aos municípios do Estado do Tocantins, para pagamento de diárias de campo aos vacinadores da campanha de vacinação antirrábica animal do ano de 2017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Georgia"/>
              </a:rPr>
              <a:t>Publicada no DOE nº 4.908, Ano XXIX, de 12 de julho de 2017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Georgia"/>
              </a:rPr>
              <a:t>Anexo II – Tabela de valores para pagamento de diárias de campo aos vacinadores da zona rural da campanha de vacinação antirrábica animal de 2017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Georgia"/>
              </a:rPr>
              <a:t>Conhecimento do impedimento do repasse de recursos fundo a fundo pelo Estado aos município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2728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Georgia"/>
                <a:ea typeface="Arial"/>
              </a:rPr>
              <a:t>Ação Civil Pública nº 0011461-14.2014.4.01.43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2728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Georgia"/>
                <a:ea typeface="Arial"/>
              </a:rPr>
              <a:t>Termo de Ajuste de Condu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tângulo 4"/>
          <p:cNvSpPr/>
          <p:nvPr/>
        </p:nvSpPr>
        <p:spPr>
          <a:xfrm>
            <a:off x="500040" y="285840"/>
            <a:ext cx="8215200" cy="459720"/>
          </a:xfrm>
          <a:prstGeom prst="rect">
            <a:avLst/>
          </a:prstGeom>
          <a:solidFill>
            <a:srgbClr val="bed3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CONTEXTUALIZ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5" name=""/>
          <p:cNvGraphicFramePr/>
          <p:nvPr/>
        </p:nvGraphicFramePr>
        <p:xfrm>
          <a:off x="500040" y="714240"/>
          <a:ext cx="8143920" cy="365400"/>
        </p:xfrm>
        <a:graphic>
          <a:graphicData uri="http://schemas.openxmlformats.org/drawingml/2006/table">
            <a:tbl>
              <a:tblPr/>
              <a:tblGrid>
                <a:gridCol w="8143920"/>
              </a:tblGrid>
              <a:tr h="36612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TERMO DE AJUSTE DE CONDUTA (TAC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ed3e1"/>
                    </a:solidFill>
                  </a:tcPr>
                </a:tc>
              </a:tr>
            </a:tbl>
          </a:graphicData>
        </a:graphic>
      </p:graphicFrame>
      <p:sp>
        <p:nvSpPr>
          <p:cNvPr id="326" name="CaixaDeTexto 3"/>
          <p:cNvSpPr/>
          <p:nvPr/>
        </p:nvSpPr>
        <p:spPr>
          <a:xfrm>
            <a:off x="571680" y="1285920"/>
            <a:ext cx="8001000" cy="51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pt-BR" sz="2200" spc="-1" strike="noStrike">
                <a:solidFill>
                  <a:srgbClr val="000000"/>
                </a:solidFill>
                <a:latin typeface="Georgia"/>
              </a:rPr>
              <a:t>DOU nº 240, de 15/12/16, com início de vigência em 15/01/2017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Georgia"/>
              </a:rPr>
              <a:t>Altera regras de movimentação de determinadas contas de repasse de recursos federais mantidas pelo Governo do Estado do Tocantins e municípios dos recursos públicos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Georgia"/>
              </a:rPr>
              <a:t>letra “b”, Cláusula Segunda: veda transferência de recursos da União que estejam em contas de titularidade do Estado do Tocantins/Fundo Estadual de Saúde para outras contas do próprio ou de outros entes federad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pt-BR" sz="2000" spc="-1" strike="noStrike">
                <a:solidFill>
                  <a:srgbClr val="000000"/>
                </a:solidFill>
                <a:latin typeface="Georgia"/>
              </a:rPr>
              <a:t>Objetivo:</a:t>
            </a:r>
            <a:r>
              <a:rPr b="0" lang="pt-BR" sz="2000" spc="-1" strike="noStrike">
                <a:solidFill>
                  <a:srgbClr val="000000"/>
                </a:solidFill>
                <a:latin typeface="Georgia"/>
              </a:rPr>
              <a:t> prevenir os desvios de recursos da União repassados aos Estados e Municípios e que devem, obrigatoriamente, ser utilizados em suas finalidades específic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Georgia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pt-BR" sz="2200" spc="-1" strike="noStrike">
                <a:solidFill>
                  <a:srgbClr val="000000"/>
                </a:solidFill>
                <a:latin typeface="Georgia"/>
              </a:rPr>
              <a:t>1º Aditivo do TAC – DOU nº 140, de 24/07/2017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7" name=""/>
          <p:cNvGraphicFramePr/>
          <p:nvPr/>
        </p:nvGraphicFramePr>
        <p:xfrm>
          <a:off x="500040" y="714240"/>
          <a:ext cx="8143920" cy="365400"/>
        </p:xfrm>
        <a:graphic>
          <a:graphicData uri="http://schemas.openxmlformats.org/drawingml/2006/table">
            <a:tbl>
              <a:tblPr/>
              <a:tblGrid>
                <a:gridCol w="8143920"/>
              </a:tblGrid>
              <a:tr h="36612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TERMO DE AJUSTE DE CONDUTA (TAC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ed3e1"/>
                    </a:solidFill>
                  </a:tcPr>
                </a:tc>
              </a:tr>
            </a:tbl>
          </a:graphicData>
        </a:graphic>
      </p:graphicFrame>
      <p:sp>
        <p:nvSpPr>
          <p:cNvPr id="328" name="CaixaDeTexto 3"/>
          <p:cNvSpPr/>
          <p:nvPr/>
        </p:nvSpPr>
        <p:spPr>
          <a:xfrm>
            <a:off x="571680" y="1585800"/>
            <a:ext cx="8001000" cy="34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pt-BR" sz="2200" spc="-1" strike="noStrike">
                <a:solidFill>
                  <a:srgbClr val="000000"/>
                </a:solidFill>
                <a:latin typeface="Georgia"/>
              </a:rPr>
              <a:t>Ofício nº 1635/2017-SES/GABSEC de 17/02/2017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Georgia"/>
                <a:ea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Georgia"/>
                <a:ea typeface="Arial"/>
              </a:rPr>
              <a:t>tentativa junto ao Ministério Público Federal de autorização de transferência de recursos financeir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Georgia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Georgia"/>
              </a:rPr>
              <a:t>Conclusão: </a:t>
            </a:r>
            <a:r>
              <a:rPr b="0" lang="pt-BR" sz="2400" spc="-1" strike="noStrike">
                <a:solidFill>
                  <a:srgbClr val="000000"/>
                </a:solidFill>
                <a:latin typeface="Georgia"/>
              </a:rPr>
              <a:t>necessidade de alteração na forma da transferência de recursos para o pagamento de diárias de campo dos vacinadores da campanha de vacinação antirrábica animal no período de 2017</a:t>
            </a:r>
            <a:r>
              <a:rPr b="0" lang="pt-BR" sz="22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tângulo 4"/>
          <p:cNvSpPr/>
          <p:nvPr/>
        </p:nvSpPr>
        <p:spPr>
          <a:xfrm>
            <a:off x="285840" y="571680"/>
            <a:ext cx="8715240" cy="825480"/>
          </a:xfrm>
          <a:prstGeom prst="rect">
            <a:avLst/>
          </a:prstGeom>
          <a:solidFill>
            <a:srgbClr val="bed3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gamento de diárias de campo dos vacinadores da campanha de vacinação antirrábica animal 2017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6"/>
          <p:cNvSpPr/>
          <p:nvPr/>
        </p:nvSpPr>
        <p:spPr>
          <a:xfrm>
            <a:off x="357120" y="1618920"/>
            <a:ext cx="857268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Georgia"/>
              </a:rPr>
              <a:t>FORMA DO REPASSE PACTUADA NA RESOLUÇÃO DA CIB Nº 230/2017, de 22/06/2017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5072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Georgia"/>
              </a:rPr>
              <a:t>Repasse financeiro Fundo a Fundo aos municípios do Estado do Tocanti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Georgia"/>
              </a:rPr>
              <a:t>FORMA DO REPASSE PROPOST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5072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Georgia"/>
              </a:rPr>
              <a:t>Pagamento de diárias diretamente nas contas correntes dos vacinador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tângulo 4"/>
          <p:cNvSpPr/>
          <p:nvPr/>
        </p:nvSpPr>
        <p:spPr>
          <a:xfrm>
            <a:off x="285840" y="571680"/>
            <a:ext cx="8715240" cy="459720"/>
          </a:xfrm>
          <a:prstGeom prst="rect">
            <a:avLst/>
          </a:prstGeom>
          <a:solidFill>
            <a:srgbClr val="bed3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CUMENTOS ANEX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6"/>
          <p:cNvSpPr/>
          <p:nvPr/>
        </p:nvSpPr>
        <p:spPr>
          <a:xfrm>
            <a:off x="285840" y="1637280"/>
            <a:ext cx="871524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indent="450720" algn="just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1- Resolução CIB/TO nº 230/2017, de 22/06/2017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50720" algn="just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2- DOE nº 4.908, Ano XXIX, de 12 de julho de 2017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50720" algn="just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Termo de Ajuste de Condut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072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3.1-TAC Anexo I; 3.2-Anexo II e 3.3- Anexo III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07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07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50720" algn="just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4- Ofício nº 1635/2017-SES/GABSEC de 17/02/2017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0" lang="pt-BR" sz="7200" spc="-1" strike="noStrike">
                <a:solidFill>
                  <a:srgbClr val="000000"/>
                </a:solidFill>
                <a:latin typeface="Arial"/>
                <a:ea typeface="Arial"/>
              </a:rPr>
              <a:t>Obrigada!</a:t>
            </a:r>
            <a:endParaRPr b="0" lang="en-US" sz="7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Assessoria Técnica de Zoonoses e Animais Peçonhento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  <a:ea typeface="Arial"/>
              </a:rPr>
              <a:t>Iza  Alencar – Assessora/Médica Veterinária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  <a:ea typeface="Arial"/>
              </a:rPr>
              <a:t>Daniele Diniz Neves – Médica Veterinária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Arial"/>
                <a:ea typeface="Arial"/>
              </a:rPr>
              <a:t>Fone: 3218-1778/4884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Arial"/>
                <a:ea typeface="Arial"/>
              </a:rPr>
              <a:t>e-mails: 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 u="sng">
                <a:solidFill>
                  <a:srgbClr val="67afbd"/>
                </a:solidFill>
                <a:uFillTx/>
                <a:latin typeface="Arial"/>
                <a:ea typeface="Arial"/>
                <a:hlinkClick r:id="rId1"/>
              </a:rPr>
              <a:t>raivatocantins@gmail.com</a:t>
            </a:r>
            <a:r>
              <a:rPr b="1" lang="pt-BR" sz="2600" spc="-1" strike="noStrike">
                <a:solidFill>
                  <a:srgbClr val="373737"/>
                </a:solidFill>
                <a:latin typeface="Arial"/>
                <a:ea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 u="sng">
                <a:solidFill>
                  <a:srgbClr val="67afbd"/>
                </a:solidFill>
                <a:uFillTx/>
                <a:latin typeface="Arial"/>
                <a:ea typeface="Arial"/>
                <a:hlinkClick r:id="rId2"/>
              </a:rPr>
              <a:t>nzoonoses@gmail.com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27T18:29:27Z</dcterms:created>
  <dc:creator>anakappes</dc:creator>
  <dc:description/>
  <dc:language>en-US</dc:language>
  <cp:lastModifiedBy>iza</cp:lastModifiedBy>
  <dcterms:modified xsi:type="dcterms:W3CDTF">2017-11-28T18:05:58Z</dcterms:modified>
  <cp:revision>739</cp:revision>
  <dc:subject/>
  <dc:title>Superintendência de Planejamento do SUS</dc:title>
</cp:coreProperties>
</file>